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camera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319A-C39E-456E-9FF0-6C345A2651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nd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esson for Kindergar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nd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esson for Kindergar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have two body parts, the head and the abdome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do not have antenna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have two body parts, the head and the abdome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do not have antenna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re not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they are small, spiders are not insect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fly, and spiders can’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re not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they are small, spiders are not inse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fly, and spiders ca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different kinds of ins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different kinds of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one of the most common ins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one of the most common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 have three body parts and six le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do have antenna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 have three body parts and six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do have antenna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8998-7286-49E3-B405-C28EDAE3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09F0-A5D2-44F8-8929-D786D406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3835-1883-4B64-8DC1-2311D2D8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AA6A-1DA4-443D-A5D9-53F6E4B2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B514-762D-448B-B9D5-F20916EF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1AA3-C85E-47A8-A504-4C30C440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98E0-0FA0-476E-9F3F-2842E6A8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CAEC-10FD-4EF6-9756-5D85D99E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3DB6-F7A6-4987-9E48-2C7BFAD9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5956-4516-4F6C-869D-8CD9CDB9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ED29-D398-478B-835D-2C4298D9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5DEC-B113-4F9C-A3D8-B2B61BB2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2BCA-EFFD-4025-A125-93A2CA5C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47A2-18D9-4068-9EEA-26AADBD9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F7C3-553E-4749-8B74-4FBDE81F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9E04-A89E-41D6-A470-FA0B48DD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A183-DDD8-4723-9C9C-43013F3A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6AC6-06F4-4FD4-AB26-D2592CD1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2C20-9BC0-4C54-86A3-6D24F93D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0FDF-F9B6-41D5-B085-137B2110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0989-CDFC-4EA5-B8C4-92180072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A92F-C02D-4931-9B2C-98397CD8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FFA9-111F-4D63-B25A-BE5D9334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56F8-D79D-4523-9665-1FA47C16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0B50-B994-43C6-87F0-BF83D113F58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B754-B02C-421D-A230-E27C4A34E18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523800" y="1359000"/>
            <a:ext cx="8315280" cy="2334960"/>
          </a:xfrm>
          <a:prstGeom prst="rect">
            <a:avLst/>
          </a:prstGeom>
          <a:ln w="0">
            <a:noFill/>
          </a:ln>
        </p:spPr>
      </p:pic>
      <p:pic>
        <p:nvPicPr>
          <p:cNvPr id="103" name="Subtitle 2" descr=""/>
          <p:cNvPicPr/>
          <p:nvPr/>
        </p:nvPicPr>
        <p:blipFill>
          <a:blip r:embed="rId2"/>
          <a:stretch/>
        </p:blipFill>
        <p:spPr>
          <a:xfrm>
            <a:off x="463680" y="3139920"/>
            <a:ext cx="8137440" cy="1938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Spiders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have two body parts, the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hea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he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abdom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do not have antenna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Placeholder 4" descr="spider 2.jpg"/>
          <p:cNvPicPr/>
          <p:nvPr/>
        </p:nvPicPr>
        <p:blipFill>
          <a:blip r:embed="rId1"/>
          <a:srcRect l="0" t="7442" r="0" b="7442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Spiders are not Insec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though they are small, spiders are not insects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insects fly, and spiders can’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" name="Picture Placeholder 5" descr="spider 3.jpg"/>
          <p:cNvPicPr/>
          <p:nvPr/>
        </p:nvPicPr>
        <p:blipFill>
          <a:blip r:embed="rId1"/>
          <a:srcRect l="0" t="18096" r="0" b="18096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Insect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are many different kinds of insec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2" name="Picture Placeholder 6" descr="insects2.jpg"/>
          <p:cNvPicPr/>
          <p:nvPr/>
        </p:nvPicPr>
        <p:blipFill>
          <a:blip r:embed="rId1"/>
          <a:srcRect l="20629" t="0" r="20629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Calibri"/>
              </a:rPr>
              <a:t>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8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ts are one of the most common insec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Placeholder 4" descr="ant 3.jpg"/>
          <p:cNvPicPr/>
          <p:nvPr/>
        </p:nvPicPr>
        <p:blipFill>
          <a:blip r:embed="rId1"/>
          <a:srcRect l="0" t="3050" r="0" b="305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Ants are insec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ects have three body parts and six leg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insects do have antenna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Placeholder 4" descr="ants 2.jpg"/>
          <p:cNvPicPr/>
          <p:nvPr/>
        </p:nvPicPr>
        <p:blipFill>
          <a:blip r:embed="rId1"/>
          <a:stretch/>
        </p:blipFill>
        <p:spPr>
          <a:xfrm>
            <a:off x="2975040" y="633240"/>
            <a:ext cx="5638680" cy="5061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54:27Z</dcterms:created>
  <dc:creator>Ector County ISD Employee</dc:creator>
  <dc:description/>
  <dc:language>en-US</dc:language>
  <cp:lastModifiedBy>RomaK</cp:lastModifiedBy>
  <dcterms:modified xsi:type="dcterms:W3CDTF">2015-09-04T10:53:17Z</dcterms:modified>
  <cp:revision>7</cp:revision>
  <dc:subject/>
  <dc:title>Spiders and Insects</dc:title>
</cp:coreProperties>
</file>